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240-25E4-4126-BB49-D451B5A2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286-78A5-48EA-A6CA-0BFA9398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C32-A058-44E9-886C-D9B9C297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8CF5-4C27-46D8-A1A3-AE166B62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F7DE-689E-406E-B371-1A06F433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57B2-FA49-4708-B445-2C3E06FB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A6BA-4D35-4377-A8E9-393D4E5F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9E6A-4110-4788-A84A-A204F09E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85C7-4996-46B5-9D7A-A9DCE49A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5FF1-4972-4661-A1A0-9865DE73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DEF9-D337-4049-BE7D-98497933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2B5-D1EF-4B88-AD1F-C889C14A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D1C0-C7D8-4108-BD87-172D6A07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D1C6-6F87-4735-BCBF-11E02D51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A40C-3E04-424B-86BE-0F2270FF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1772-7997-4A28-B70F-6189C500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9D29-8169-40C3-B74A-356BEA31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1AE5A-356C-4331-B997-4066A3F9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69017-FCA5-40F6-B0EF-03B0C541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B75F6-8354-4B7A-8AC2-A0C82EBB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CFD3A-54D6-4760-83FF-EB3850C5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F93DC-7698-4BBC-82FF-75AEC31D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F0B-A40D-4217-9B36-9CA23E0B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E33D2-AB08-4E14-A144-B5358D21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C30ED-917A-4FF9-8603-05749694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3AD54-2FC1-4960-8E82-36FD9800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5085A-4BF5-46E7-ACA6-E511C5F0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0E59B-FB6C-4AE2-953F-51BB3098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ACDF9-43F1-45E8-B2AD-32F4E32C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16F85-6CB0-4704-8BA0-BDF83A33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5940A-B772-42A0-BA2A-ECEF9ECE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267F8-C3E3-48E2-9F8F-4F6E713B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EE329-1482-4A0A-84CA-E987A8DD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4A9-6B52-4D5B-9B09-4DA424CC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2469-DB45-4EEE-9288-9589215C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7CCC-8951-4B6B-98E9-E186D581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71862-8BA5-4054-9FAB-7012D430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4A98F-E66A-4381-A841-71610DAB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B70CE-200C-442C-8E24-1B8851E1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87DA1-8793-49DA-AFCA-0D560726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B3777-AEB4-472E-96EB-21CD7A78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98E80-370C-47A6-9DAD-DDC592BC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D3E1B-7B4B-4907-8B66-AF4BC18A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B500F-F0CC-4CCE-97FB-0CC638F1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791-F6CB-4E75-94ED-A74F851C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FD377-4E25-4CB9-8F30-B796D29B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2D106-7E47-408F-9378-B98382FE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B4750-09F4-49A9-A54F-7DFC0E98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8ECEB4-BF28-440C-8A00-CD17DA0F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8D46F-3249-46EA-9588-EE12B3C3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66080-61DB-4842-B91C-DDF35785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62BBE-696D-47E1-8A9E-9721FAEE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CE979-B8F0-44C2-B04A-B101D0BF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14A24E-2FC1-43D8-BEF3-536AB27B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7A7426-59F6-4ADF-A43F-300DA0FF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480-A1DB-4DEE-8A78-2B394329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7A85F-7B0F-4AC4-9D5B-0C8AF58E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7A67D3-7CA4-4847-9394-C7F81912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13CA2-5DA7-44D5-BA08-4F7B52AF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326FAB-A2B6-42F4-A9D3-596D6B1B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1DCE7-A893-4F0E-B594-1C8A0D0F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29A914-1F5C-4DCD-A675-1CC41DD7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F7AC60-B906-43C0-AA39-3B56EAC3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B2C63-47D6-4755-A91D-2FC5FB6A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85795-29DE-455B-8C94-8E46CB51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34E52-0EEC-4F23-9203-5EF099E4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2D8-811C-40C9-974B-BEEDDC5E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FE081-A815-442D-8A92-949DD453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68002-1AD0-4FE5-9CE5-53617769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BC96B0-8825-45D2-A9F2-2EE63C59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ACF6A-1DD3-446C-970F-3C98DD9F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BCC1A-3FAE-44D4-BE82-E0DF6526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327BE-EA75-4AE2-A10F-18CD3639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C696F-A2DD-4B97-B0B3-F7C23ABE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797F66-92C1-4E15-9C95-92A9B545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E3E37E-477F-4F7B-B961-6CF7966E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0B9E6B-26ED-4FBA-A08E-CB9CB6C4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268-A3EF-43E8-8A2A-E9B2D393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0B6BDD-F52C-4ED3-9613-90E05B11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72B85-7B55-440D-AE19-78636B0E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74445-843A-465D-A763-7A802280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8D36C-C7F7-40FE-B328-3738E15C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AC929-10D8-4330-9283-1FD64992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BB6-F14C-4D3C-8AF2-25855936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A468-096C-4A84-8550-6EFCB1AE8CE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240F-325C-4EF9-83DB-746B5DF48B7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59FF-EE26-4EE4-B721-1308BFA7808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ded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3ded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ded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ded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4BA6-D26E-4573-912C-837D8B6638C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96CB-7235-4226-86BB-FE5C25DDC08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06AA-F6AA-4DA3-8B22-DC0735AFAF3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F03A-1603-47FA-873F-33F44C7E4B9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974960" y="360360"/>
            <a:ext cx="6894360" cy="312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3786120" cy="32954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6156360" y="5950080"/>
            <a:ext cx="298764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Блейхер Жанна Андр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старший воспит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МБДОУ «ЦРР – детский сад №41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ТЕРМИН «ПЛАН» ТРАКТУЕТСЯ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система взаимосвязанных, направленных на достижение единой цели плановых заданий, определяющих порядок, сроки и последовательность осуществления программ, работ или отдельных мероприят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 кратко (или полно) зафиксировать целевые ориентиры, познавательные задачи, программное содержание, последовательность организации и проведения образовательной деятельности с деть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О ВИДАМ ПЛАНЫ ДЕЛЯТСЯ </a:t>
            </a:r>
            <a:endParaRPr b="0" lang="en-US" sz="32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100008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2143080" y="12859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232800" y="13572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спе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2143080" y="26431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2214720" y="4214880"/>
            <a:ext cx="421452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аленд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0"/>
          <p:cNvSpPr/>
          <p:nvPr/>
        </p:nvSpPr>
        <p:spPr>
          <a:xfrm flipV="1">
            <a:off x="1071720" y="785520"/>
            <a:ext cx="0" cy="407196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16"/>
          <p:cNvCxnSpPr/>
          <p:nvPr/>
        </p:nvCxnSpPr>
        <p:spPr>
          <a:xfrm>
            <a:off x="1071360" y="1714680"/>
            <a:ext cx="85788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6" name="Прямая со стрелкой 18"/>
          <p:cNvCxnSpPr/>
          <p:nvPr/>
        </p:nvCxnSpPr>
        <p:spPr>
          <a:xfrm>
            <a:off x="1071720" y="2999880"/>
            <a:ext cx="78624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7" name="Прямая со стрелкой 20"/>
          <p:cNvCxnSpPr/>
          <p:nvPr/>
        </p:nvCxnSpPr>
        <p:spPr>
          <a:xfrm>
            <a:off x="1071720" y="4857840"/>
            <a:ext cx="78624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88" name="Прямая соединительная линия 22"/>
          <p:cNvSpPr/>
          <p:nvPr/>
        </p:nvSpPr>
        <p:spPr>
          <a:xfrm flipH="1" flipV="1">
            <a:off x="1071360" y="785880"/>
            <a:ext cx="57132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5"/>
          <p:cNvSpPr/>
          <p:nvPr/>
        </p:nvSpPr>
        <p:spPr>
          <a:xfrm flipH="1">
            <a:off x="7429680" y="785880"/>
            <a:ext cx="1440" cy="407340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8"/>
          <p:cNvSpPr/>
          <p:nvPr/>
        </p:nvSpPr>
        <p:spPr>
          <a:xfrm flipH="1" flipV="1">
            <a:off x="6858000" y="785880"/>
            <a:ext cx="57168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32"/>
          <p:cNvCxnSpPr/>
          <p:nvPr/>
        </p:nvCxnSpPr>
        <p:spPr>
          <a:xfrm flipH="1" flipV="1">
            <a:off x="6714360" y="171432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2" name="Прямая со стрелкой 37"/>
          <p:cNvCxnSpPr/>
          <p:nvPr/>
        </p:nvCxnSpPr>
        <p:spPr>
          <a:xfrm flipH="1" flipV="1">
            <a:off x="6714360" y="2999520"/>
            <a:ext cx="71532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3" name="Прямая со стрелкой 43"/>
          <p:cNvCxnSpPr/>
          <p:nvPr/>
        </p:nvCxnSpPr>
        <p:spPr>
          <a:xfrm flipH="1" flipV="1">
            <a:off x="6714360" y="485748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entury Schoolbook"/>
              </a:rPr>
              <a:t>СЛАБЫЕ СТОРОНЫ ПЕРСПЕКТИВНОГО ПЛАНИРОВАНИЯ</a:t>
            </a: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спективное планирование, в отсутствии календарного (комплексно – тематического) плана, не раскрывает содержания деятельности, методические приемы, не конкретизирует дидактическое обеспечени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 всегда позволяет равномерно распределить деятельность по ее видам в течение определенного отрезка времен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збежать прецедента дополнительной нагрузки на детей или ее необоснованного отсутств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трудняет осуществление методического контроля над выполнением планируемых мероприят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КОМПЛЕКСНО – ТЕМАТИЧЕСКИЙ ПЛАН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ым содержанием комплексно-тематического пла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собы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е дошкольнику успешно «ориентироваться в четырех мирах действительности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живой и неживой прир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творном мир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общественных (социальных отношений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собственной внутренней жизнедеятельности» (Концепция дошкольного воспитания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разработке комплексно – тематического плана педагогом выделяются основные «узловые» темы. Темы занятий «многослойны», т. е. они повторяются с определенным усложнением в каждой возрастной группе. Возвращение к теме в иных педагогических условиях, на другом содержании, возрастном уровне развития помогают ребенку успешно освоить информацию, овладеть новыми способами общения и познания окружающего мира, формирует компетентность как особую «практическую умелость, опыт» при решении несложных жизненных ситуац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 – тематический план может составляться воспитателем при участии специалистов ДОУ, которые на своих занятиях творчески обогащают и дополняют возможности детей, добиваясь при интеграции высоких образовательных эффекто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713880"/>
            <a:ext cx="7467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атического содержания, определение форм работы по его реализации и интеграции осуществляется педагогом на месяц. Основным принципом при подборе содержания являются образовательные области и решение их основных задач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23232"/>
                </a:solidFill>
                <a:latin typeface="Century Schoolbook"/>
              </a:rPr>
              <a:t>СОДЕРЖАНИЕ КАЛЕНДАРНОГО ПЛАНА СТРУКТУРИРУЕТСЯ ПО БЛОКАМ И ПРЕДСТАВЛЯЕТСЯ В ВИДЕ СХЕМЫ.</a:t>
            </a:r>
            <a:endParaRPr b="0" lang="en-US" sz="25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разовательный бло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сетка занят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овместной деятельности взрослого и дет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амостоятельной деятельности дете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79297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КАЛЕНДАРНОЕ  ПЛАНИРОВАНИЕ  ВОСПИТАТЕЛЬНО-ОБРАЗОВАТЕЛЬНОЙ РАБОТЫ</a:t>
            </a:r>
            <a:br>
              <a:rPr sz="1200"/>
            </a:b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       НА ПЕРИОД:__________________________________________, ГРУППА:_____________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ТЕМА:__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ЦЕЛЬ: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ИТОГОВОЕ</a:t>
            </a: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МЕРОПРИЯТИЕ:________________________________________________ДАТА:____</a:t>
            </a:r>
            <a:br>
              <a:rPr sz="1200"/>
            </a:br>
            <a:endParaRPr b="0" lang="en-US" sz="1200" spc="-1" strike="noStrike">
              <a:solidFill>
                <a:srgbClr val="323232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57120" y="1928880"/>
          <a:ext cx="8286840" cy="4572000"/>
        </p:xfrm>
        <a:graphic>
          <a:graphicData uri="http://schemas.openxmlformats.org/drawingml/2006/table">
            <a:tbl>
              <a:tblPr/>
              <a:tblGrid>
                <a:gridCol w="689040"/>
                <a:gridCol w="574560"/>
                <a:gridCol w="719280"/>
                <a:gridCol w="1386000"/>
                <a:gridCol w="172800"/>
                <a:gridCol w="1559160"/>
                <a:gridCol w="1460520"/>
                <a:gridCol w="1725480"/>
              </a:tblGrid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нед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. обл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местная деятельность детей  с воспита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развивающей среды для самостоятельной детск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в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.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худ.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ення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журство по столов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в уголке при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.г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в центре активности по интерес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беседы по запросам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0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ая бес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ор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природным  и выносным материа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7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казки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ушивание спокойной музы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Г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«Усыплялочки»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овина дня, веч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в постели, ходьба по массажной дорожке, водные процед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материалов к занятию, атрибутов к инр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ОБРАЗОВАТЕЛЬНАЯ ДЕЯТЕЛЬНОСТЬ В ХОДЕ РЕЖИМНЫХ МОМЕНТОВ 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образовательного содержания в ходе режимных моментов целесообразно использовать циклограмму, позволяющую педагогу установить «разумный баланс» между видами образовательной деятельности, амплифицировать развитие детей по основным направлениям: физическому, социально-личностному, познавательно-речевому и художественно-эстетическ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40" y="2506680"/>
            <a:ext cx="7215120" cy="4351320"/>
          </a:xfrm>
          <a:prstGeom prst="rect">
            <a:avLst/>
          </a:prstGeom>
          <a:ln w="0">
            <a:noFill/>
          </a:ln>
        </p:spPr>
      </p:pic>
      <p:pic>
        <p:nvPicPr>
          <p:cNvPr id="355" name="Заголовок 1" descr=""/>
          <p:cNvPicPr/>
          <p:nvPr/>
        </p:nvPicPr>
        <p:blipFill>
          <a:blip r:embed="rId2"/>
          <a:stretch/>
        </p:blipFill>
        <p:spPr>
          <a:xfrm>
            <a:off x="55440" y="49320"/>
            <a:ext cx="85219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571680"/>
            <a:ext cx="78296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Благодарю 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за внимание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3571920" y="3286080"/>
            <a:ext cx="37861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01760" y="669960"/>
            <a:ext cx="80722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 планир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спечение целенаправленного развития образовательных областей образовательной программы, их интеграци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здание базы для осуществления контроля за ОП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оставление информации об организации деятельности возрастной групп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ализацию новых форм взаимодействия с детьми, родителями в структуре планиров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ЛАНИРОВАНИЕ ОТРАЖАЕТ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реализации основной образовательной программ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фику и развитие приоритетных направлений деятельности ДО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авливает связи между занятиями, игрой и трудом дете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и результаты реализуемых творческих прое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он РФ «Об образовании» (пункт 6.2 статьи 9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каз министерства образования и науки РФ от 23.11.2009 г. №65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тверждены ФГТ к структуре основной общеобразовательной программы Д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ожения ФГТ являются основ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уктуры планирования образ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 основываться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плексно-тематическом принцип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роения образовательного процесса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предусматривать решение образовательных задач в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вместной деятельности взрослого и детей и самостоятельной деятельности детей не только в рамках НОД, но и при проведении режимных момент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 предполагать построение образовательного процесса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екватных возрасту формах работы с деть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имерами построения образовательного процесса по комплексно-тематическому принципу служат вариативные программ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рная основная общеобразовательная программа дошкольного образования «Успех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т рождения до школ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Золотой ключи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Сообщество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Овал 4"/>
          <p:cNvSpPr/>
          <p:nvPr/>
        </p:nvSpPr>
        <p:spPr>
          <a:xfrm flipV="1" rot="10800000">
            <a:off x="2286000" y="928800"/>
            <a:ext cx="4500720" cy="164304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 принцип построени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5"/>
          <p:cNvSpPr/>
          <p:nvPr/>
        </p:nvSpPr>
        <p:spPr>
          <a:xfrm>
            <a:off x="1357200" y="3071880"/>
            <a:ext cx="128592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6"/>
          <p:cNvSpPr/>
          <p:nvPr/>
        </p:nvSpPr>
        <p:spPr>
          <a:xfrm>
            <a:off x="3857760" y="3500280"/>
            <a:ext cx="13572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6429240" y="3071880"/>
            <a:ext cx="121464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8"/>
          <p:cNvSpPr/>
          <p:nvPr/>
        </p:nvSpPr>
        <p:spPr>
          <a:xfrm>
            <a:off x="3842280" y="2858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10"/>
          <p:cNvCxnSpPr/>
          <p:nvPr/>
        </p:nvCxnSpPr>
        <p:spPr>
          <a:xfrm flipH="1">
            <a:off x="2356560" y="2428560"/>
            <a:ext cx="429480" cy="57204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0" name="Прямая со стрелкой 12"/>
          <p:cNvCxnSpPr/>
          <p:nvPr/>
        </p:nvCxnSpPr>
        <p:spPr>
          <a:xfrm flipH="1">
            <a:off x="4570200" y="2643120"/>
            <a:ext cx="3600" cy="6433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1" name="Прямая со стрелкой 14"/>
          <p:cNvCxnSpPr/>
          <p:nvPr/>
        </p:nvCxnSpPr>
        <p:spPr>
          <a:xfrm>
            <a:off x="6143760" y="2428560"/>
            <a:ext cx="42912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72" name="Овал 15"/>
          <p:cNvSpPr/>
          <p:nvPr/>
        </p:nvSpPr>
        <p:spPr>
          <a:xfrm>
            <a:off x="2500200" y="5143680"/>
            <a:ext cx="421488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нтег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7"/>
          <p:cNvCxnSpPr/>
          <p:nvPr/>
        </p:nvCxnSpPr>
        <p:spPr>
          <a:xfrm>
            <a:off x="2000160" y="4000320"/>
            <a:ext cx="1215360" cy="121500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4" name="Прямая со стрелкой 19"/>
          <p:cNvCxnSpPr/>
          <p:nvPr/>
        </p:nvCxnSpPr>
        <p:spPr>
          <a:xfrm flipH="1">
            <a:off x="4570200" y="4501800"/>
            <a:ext cx="360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5" name="Прямая со стрелкой 21"/>
          <p:cNvCxnSpPr/>
          <p:nvPr/>
        </p:nvCxnSpPr>
        <p:spPr>
          <a:xfrm flipH="1">
            <a:off x="5857200" y="4071600"/>
            <a:ext cx="1143720" cy="11437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09:09:02Z</dcterms:created>
  <dc:creator>Лидер</dc:creator>
  <dc:description/>
  <dc:language>en-US</dc:language>
  <cp:lastModifiedBy>USER</cp:lastModifiedBy>
  <dcterms:modified xsi:type="dcterms:W3CDTF">2013-03-30T15:55:16Z</dcterms:modified>
  <cp:revision>46</cp:revision>
  <dc:subject/>
  <dc:title>«Планирование   образовательного процесса с детьми в условиях реализации                       ФГТ»</dc:title>
</cp:coreProperties>
</file>